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8B04-3289-4EC5-A2F8-EA628B88E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Q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an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481-06B9-4879-8A78-E911969F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E96-4D6D-488F-BC96-BBDDEF6E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B30-C360-4EC8-8EF2-CB040AD6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9F9-FE3C-4ED7-85A9-953AAB43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E0AA-08B3-48F7-9FC8-F32AAE9F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0D6E-28C0-4DF9-957C-E0A7857D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4C6E-171D-410B-A67C-4D31C924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8DE1-18F4-413D-A85C-9A63F05D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B1ED-7E8E-4636-8F98-B5F43C3C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28BE-A01B-436F-9192-D30853A2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CDC8-AD0E-45DA-BDBA-70171D1F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6E3-4BEA-44A5-BD99-E8A3765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6732-503F-4ADB-9627-804160B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CF02-6D1D-46DD-908D-AD6962D8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46CE-F0C0-46BD-B119-02549453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97EF-C740-4492-B166-677E0206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B58-4731-4D9A-A88B-0920E52F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489-8CB6-4C6B-A3EB-823B6C64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810-7D98-45C3-BB7C-DDE21A1D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B34-30DC-4069-887A-9857F5F8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30A-CBA6-468D-A869-6C1CBEDC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E79-6971-4513-8365-9A264474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467-F353-4B04-A1A9-7A8BA77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D88-9CFF-4A3F-B63D-2787DFE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7b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7b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7b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7b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5CBE-BB60-4E81-802F-B7A70A7B8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7b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7b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7b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7b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C946-4487-4FE3-AD9E-357D07CCD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blackboard.wcpss.net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pyright for the 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3276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s Education and Library Media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 Staff Develop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pared under fair use exemption of the U.S. Copyright La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519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ublic Domain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 published before 1/1/19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 published between 1923 and 1978 with no valid copyright notice or was nor ren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 authored by employees of the feder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 that the copyright owner has granted to the public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ution:  Look for selected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lackboard Site for Copyrigh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37240" y="2895480"/>
            <a:ext cx="1540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496040" cy="371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16002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2133720"/>
            <a:ext cx="335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Q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w and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do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Blackboard Site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What About Copyrigh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4495680" cy="134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7200" y="34290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n to Guests—so any WCPSS staff may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33"/>
                </a:solidFill>
                <a:uFillTx/>
                <a:latin typeface="Times New Roman"/>
                <a:hlinkClick r:id="rId2"/>
              </a:rPr>
              <a:t>http://blackboard.wcpss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 in using your email ID, password- 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on Course Sites (top but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on Central Office, Curriculum &amp; Instru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bout Copy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080" y="2362320"/>
            <a:ext cx="723924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better to ask for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permis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an to beg forgiven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araphrased from Carol Simpson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Catechis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33520"/>
            <a:ext cx="7772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pyright Compl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Good Faith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dia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ol Simpson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Cathec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ol Simpson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for Schools: a Practical Guide. 4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 used with permission of Carol Simpson and Gary B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part used.  Copyright © 2006 Microsoft Corporation, One Microsoft Way, Redmond, Washington 98052-6399 U.S.A. All rights reser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 used with permission of NCD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llabo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dy Elliott, Coordinating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Media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ja Beckham, NBCT, Media Coordinator at Apex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Jackson, NBCT, Media Coordinator, Davis Dr.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e Moody, Coordinating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ry attempt has been made to be accurate, but th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ation does not take the place of legal couns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895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not the copyright 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complex and extensive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edia significantly impacts copy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consider copyright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and resources to assist – where to fin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ducators-Special Privile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y Becker, Copyright Consultant ,addresses the responsibility of educators on the topic of copyright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"Educators have special privileges under copyright law, but they also have a special responsibility to respect -- and to teach students to respect -- the intellectual property rights of others. This responsibility is especially important now that the Internet makes so much copyrighted material so accessible to so many people.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ecker, “Copyright in a Digital Age,” June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lectronic-school.com/2000/06/0600f2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683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ilding-Level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books should be available in your building in your Professional Libra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rol Simpson. 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Catechism: Practical Answers to Everyday School Dilemmas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 Linworth Books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rol Simpson. 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for Schools: a Practical Guid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Fourth Edition.  Worthington, Ohio, Linworth Publishing, Inc.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Library Media Coordinator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irst contact for copyright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850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(17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clusive right to reproduce, publish, and sell the matter and form of a literary, musical, or artistic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Simpson, Copyright for Schools: A Practical Guide,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280" y="676080"/>
            <a:ext cx="74898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Copyr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057400"/>
            <a:ext cx="838188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tection provided by th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law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 the United St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ranted to the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uth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 “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orks of authorship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ailable to both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ublished and unpublish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thor has the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xclusiv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ight to do and to authorize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s to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produce, prepare derivative works,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istribute copies, perform the work publicly, displa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 work publicly, to perform by means of digit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ransmis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.S. Copyright Office – Copyright Basics (Circular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www.copyright.gov/circs/circ1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ir Use Principles – Four Factor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Copyright Law, Section 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urpose and character of the u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commercial or nonprofi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ture of the copyright wo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mount &amp; Substantiality of the portion us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ffect of the use upon the potential mark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420040" y="4572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Works Do Not Requi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miss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Works consisting entirely of information that is common property and containing no original author or in no tangible form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 Domain Works – but look for restric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3:46:04Z</dcterms:created>
  <dc:creator>Trudy Elliott</dc:creator>
  <dc:description/>
  <dc:language>en-US</dc:language>
  <cp:lastModifiedBy>Trudy Elliott</cp:lastModifiedBy>
  <dcterms:modified xsi:type="dcterms:W3CDTF">2006-04-03T16:55:18Z</dcterms:modified>
  <cp:revision>39</cp:revision>
  <dc:subject/>
  <dc:title>PowerPoint Presentation</dc:title>
</cp:coreProperties>
</file>